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E449-A152-4D6B-8BC4-4AC0D41A2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37F6-D49E-4C24-B1BF-E0EF0E9D4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5D79-3176-490E-B861-3CDDA0EC6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2D35-3E59-45BB-B499-20CFBAD49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4667D-ACF7-46D3-85E3-63863AF958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5C2F-AB85-459B-A31D-3BC8386057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793E-AC73-4991-9FF9-DB524EF499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5107D-1272-456F-8440-6A56E10877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9C04-501C-47AB-A32F-28C1EC5FD7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CF598-DFD6-4D17-AE66-FA46785BA6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A28D-FA05-421F-9B5D-D9874281DE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4D95-CE98-4D04-9603-A387D9B57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6D0B-1975-48C8-AA95-31DCB381AE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AFF3-9A6D-46C3-8341-A183D53674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9674-497C-4C28-AE51-017DE639FE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57D8-9AEF-4CB2-A06D-4BE0E4BA4D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DB44-14EE-43CF-B15A-D372E60540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C2A3-111D-465F-AD9A-D553D0EDE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DC96-9E78-4FD0-833E-4EEB2766E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2FA8-4DA9-47ED-9E5A-53B6C1515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392F-EA98-4CD4-A929-7131ECCB4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3982-FD01-4B25-BEC6-0F77D6C09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02AF-BDD1-4EA7-9B1D-419743D1D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B3B5-1563-497B-8E5C-8959BDB0B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EAA5-F4C1-429F-9161-DCA369845D02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7F37-0334-442E-B59E-B68F878E45A2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760" y="1790640"/>
            <a:ext cx="8610480" cy="111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11360" y="323856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onal Technology Servic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55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rebuchet MS"/>
                <a:ea typeface="Trebuchet MS"/>
              </a:rPr>
              <a:t>Assistive Technology Assessment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ies</a:t>
            </a:r>
            <a:endParaRPr b="0" lang="en-US" sz="36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8288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etencies 1, 2, 7, 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819520"/>
            <a:ext cx="8077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1 - Knowledge of school district’s AT assessmen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2 - Understanding of State and Federal regulations and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lici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7 - Ability to interpret and present results of A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ssessment to IEP tea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9 - Collaborate with those in charge of implementing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IEP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63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Lucida Grande"/>
              </a:rPr>
              <a:t>Competency 1: 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Trebuchet MS"/>
                <a:ea typeface="Trebuchet MS"/>
              </a:rPr>
              <a:t>Be knowledgeable about and implement the school district's assistive technology (AT) assessment procedures.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66" name=""/>
          <p:cNvSpPr/>
          <p:nvPr/>
        </p:nvSpPr>
        <p:spPr>
          <a:xfrm>
            <a:off x="419040" y="26035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nsider different ways to disseminate information on procedures, including web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doing training, talk about where procedures are locate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Meet with ESE teachers each year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consulting, training, etc. refer teachers to district procedures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Ongoing revisions; including transition plan, ESY procedures, TAPs……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70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20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2: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Understand federal and state regulations and policies related to the consideration and implementation of assistive technology in Florida schools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3" name=""/>
          <p:cNvSpPr/>
          <p:nvPr/>
        </p:nvSpPr>
        <p:spPr>
          <a:xfrm>
            <a:off x="520560" y="3162240"/>
            <a:ext cx="75438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Sign up for paperless from DOE to get TAPS directly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ASHA is excellent source for informatio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RTS distribute to local teams and to staffing specialist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rainings are open to Gen Ed Teachers. TAPs disseminated when appropriat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77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32920"/>
            <a:ext cx="86994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7:</a:t>
            </a:r>
            <a:br>
              <a:rPr sz="2700"/>
            </a:br>
            <a:r>
              <a:rPr b="0" lang="en-US" sz="2700" spc="-1" strike="noStrike">
                <a:solidFill>
                  <a:srgbClr val="04617b"/>
                </a:solidFill>
                <a:latin typeface="Trebuchet MS"/>
                <a:ea typeface="Trebuchet MS"/>
              </a:rPr>
              <a:t>Interpret and present the results of AT assessments to the IEP teams in a way that supports effective decision</a:t>
            </a:r>
            <a:r>
              <a:rPr b="0" lang="en-US" sz="2500" spc="-1" strike="noStrike">
                <a:solidFill>
                  <a:srgbClr val="04617b"/>
                </a:solidFill>
                <a:latin typeface="Trebuchet MS"/>
                <a:ea typeface="Trebuchet MS"/>
              </a:rPr>
              <a:t>-making based on the student, the educational program, and data gathered during the assessment process.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74320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pport via Assessment Tool Kits, LOTTIE kits or commercial kits – train school staff on us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chool based teams are being used extensively, but good training is essenti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atellite Labs – make &amp; take, technical assistance, AT tool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any Tech’s attend IEP meetings when more severe needs are present.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teams invite LATS and RLATS to attend/participate when indicated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8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8280" y="-31680"/>
            <a:ext cx="8407440" cy="29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9: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llaborate with those in charge of implementing the IEP to formulate and initiate a plan using AT to support the educational achievement of the students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7432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lementation part has to be done by school based tea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DLRS may support by demonstrating model teachin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KYPE-video conferencing with teacher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odel lessons; asks for data when possibl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llow up modeling with written plan, model again and again, and again and practice, practice, practic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30% assessment, 70% implementation-how we determine if what they are using is effectiv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monstration cl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9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Review the Trends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41308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ct plans including transition, with a move to web ba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ign up for paperless communication through DO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dobe Connect, Elluminate used for virtual meetings/SKYP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LDRS Associate Techs, LATS and RLATS providing Model lessons and Model Classro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ct Teams are successful and driving the ac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lementation is the key: Recommend 30% assessment, 70% implementation-how we determine if what they are using is effectiv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5F55-5105-48D7-8CFC-01CE085E981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98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45820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Let’s do your Action Plans. 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47ED-FAEE-4724-97D0-BD02E2C0BB0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0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Florida/NIMAS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07" name=""/>
          <p:cNvSpPr/>
          <p:nvPr/>
        </p:nvSpPr>
        <p:spPr>
          <a:xfrm>
            <a:off x="1639800" y="2502000"/>
            <a:ext cx="593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1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  <a:ea typeface="Trebuchet MS"/>
              </a:rPr>
              <a:t>Beginner LATS</a:t>
            </a:r>
            <a:endParaRPr b="0" lang="en-US" sz="4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133720"/>
            <a:ext cx="6858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18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3440"/>
            <a:ext cx="83059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Trebuchet MS"/>
                <a:ea typeface="Trebuchet MS"/>
              </a:rPr>
              <a:t>THANK YOU!!!!!!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9680" y="673200"/>
            <a:ext cx="8864640" cy="5908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86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9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42A23-F086-485C-BC9C-1EEC31E46E3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600" y="584280"/>
            <a:ext cx="8915400" cy="594360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92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95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DBB2-55CA-4A16-AF3A-09FBB142C3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50760" y="655560"/>
            <a:ext cx="9004320" cy="60022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9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C27F-0275-4E25-AEF4-24BBCAB6BB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488880" y="419040"/>
            <a:ext cx="9435960" cy="62895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4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7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0F8A-82CF-46A6-B11A-64B7E07DBA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2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  <a:ea typeface="Trebuchet MS"/>
              </a:rPr>
              <a:t>Regional Technology Services Specialists (RTS)</a:t>
            </a:r>
            <a:endParaRPr b="0" lang="en-US" sz="4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717640"/>
            <a:ext cx="72388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Our network’s goal is. . .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o use the  Florida Assistive Technology  Assessment Competencies to provides a framework for the way we do business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9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429000" y="1676520"/>
            <a:ext cx="228600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UD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0560" y="3352680"/>
            <a:ext cx="1440" cy="6098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066680" y="3963960"/>
            <a:ext cx="6934320" cy="14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648320"/>
            <a:ext cx="198144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T and UD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4648320"/>
            <a:ext cx="22096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UDL Solutions for IE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ccommod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648320"/>
            <a:ext cx="19810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EP Goals and Tech Strate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7007400" y="4648320"/>
            <a:ext cx="19810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, AT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65240" y="3963960"/>
            <a:ext cx="144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98960" y="3965400"/>
            <a:ext cx="1440" cy="6829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60560" y="3963960"/>
            <a:ext cx="180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999560" y="3963960"/>
            <a:ext cx="144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3049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oadmap for supporting students with disabilities (SW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36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Action Plan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981080"/>
            <a:ext cx="83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2727360"/>
            <a:ext cx="7696080" cy="11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4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December 3rd Action Plan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81080"/>
            <a:ext cx="83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26708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419112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ヒラギノ角ゴ ProN W3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0200" y="1325520"/>
          <a:ext cx="7165800" cy="507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325520"/>
                    <a:ext cx="71658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th Saunders</dc:creator>
  <dc:description/>
  <cp:keywords/>
  <dc:language>en-US</dc:language>
  <cp:lastModifiedBy>lcsb</cp:lastModifiedBy>
  <dcterms:modified xsi:type="dcterms:W3CDTF">2008-12-03T13:19:05Z</dcterms:modified>
  <cp:revision>5</cp:revision>
  <dc:subject/>
  <dc:title>Assistive Technology Assessment Competencies</dc:title>
</cp:coreProperties>
</file>