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A896B-0534-4690-987F-17297DC95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A3C94-BA2A-4F94-AEC6-FF67B57A8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03ACD-E920-40E0-94BE-F9DA7516E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3F5D-9571-4FE8-B07F-081B1DA37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690F3-E975-4C12-BB48-79299386FE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53D14-E0B5-41F4-A63A-DCF721FCCA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B0D2C-7CCD-461B-870C-39C0C851F1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BB92F-F0ED-42A2-9585-A7A73CD27F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0543C-707A-4BCB-987C-716C423A20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70308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5F094-C0DE-468E-9A6D-E87038C9F2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BFFC9-0FBF-44A6-89BE-D7798BA39F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4E10C-2B25-4732-9FDB-77A0CACAB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35BFF-A5E2-4307-99B3-11D11E478E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D7DC4-5B8B-44F7-868B-4E7F748EA0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DF3FA-3501-4234-B25E-E4292884B1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46778-67C7-4A4A-94EB-B308212D3E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3900D-A9A8-4DCE-8FBC-5117EFEA85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19CEF-7BBB-4179-B610-0F10793BC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4459F-E582-4B82-AF66-917E038B6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B85BE-D2A0-4D40-BC50-9BD6A82D08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70308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148DB-BD46-44BE-BEAC-B781D668B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38377-A932-4D39-AEA5-ABE948A91E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DBE68-FAB7-47AE-9BE2-5BD14988F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F1E5E-B413-4A6A-9B7C-C0E5BBCB4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480160" y="6530760"/>
            <a:ext cx="2062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FC38-A09B-45FA-B1D9-4FEB0C53F573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639720" indent="-247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914400" indent="-247680">
              <a:spcBef>
                <a:spcPts val="499"/>
              </a:spcBef>
              <a:buClr>
                <a:srgbClr val="009dd9"/>
              </a:buClr>
              <a:buSzPct val="69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461960" indent="-209520">
              <a:spcBef>
                <a:spcPts val="499"/>
              </a:spcBef>
              <a:buClr>
                <a:srgbClr val="10cf9b"/>
              </a:buClr>
              <a:buSzPct val="64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461960" indent="-209520">
              <a:spcBef>
                <a:spcPts val="499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461960" indent="-209520">
              <a:spcBef>
                <a:spcPts val="499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8480160" y="6530760"/>
            <a:ext cx="2062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092A-54AF-46E0-B0C2-5A52F4B389CB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639720" indent="-247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914400" indent="-247680">
              <a:spcBef>
                <a:spcPts val="499"/>
              </a:spcBef>
              <a:buClr>
                <a:srgbClr val="009dd9"/>
              </a:buClr>
              <a:buSzPct val="69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461960" indent="-209520">
              <a:spcBef>
                <a:spcPts val="499"/>
              </a:spcBef>
              <a:buClr>
                <a:srgbClr val="10cf9b"/>
              </a:buClr>
              <a:buSzPct val="64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461960" indent="-209520">
              <a:spcBef>
                <a:spcPts val="499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461960" indent="-209520">
              <a:spcBef>
                <a:spcPts val="499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81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66760" y="1790640"/>
            <a:ext cx="8610480" cy="1117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11360" y="323856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  <a:ea typeface="Trebuchet MS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gional Technology Servic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55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rebuchet MS"/>
                <a:ea typeface="Trebuchet MS"/>
              </a:rPr>
              <a:t>Assistive Technology Assessment</a:t>
            </a:r>
            <a:br>
              <a:rPr sz="3600"/>
            </a:br>
            <a:r>
              <a:rPr b="1" lang="en-US" sz="3600" spc="-1" strike="noStrike">
                <a:solidFill>
                  <a:srgbClr val="04617b"/>
                </a:solidFill>
                <a:latin typeface="Trebuchet MS"/>
                <a:ea typeface="Trebuchet MS"/>
              </a:rPr>
              <a:t>Competencies</a:t>
            </a:r>
            <a:endParaRPr b="0" lang="en-US" sz="36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1828800"/>
            <a:ext cx="5715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etencies 1, 2, 7, 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2819520"/>
            <a:ext cx="807732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#1 - Knowledge of school district’s AT assessment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#2 - Understanding of State and Federal regulations and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policie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#7 - Ability to interpret and present results of AT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ssessment to IEP team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#9 - Collaborate with those in charge of implementing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e IEP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63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Lucida Grande"/>
              </a:rPr>
              <a:t>Competency 1: 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Trebuchet MS"/>
                <a:ea typeface="Trebuchet MS"/>
              </a:rPr>
              <a:t>Be knowledgeable about and implement the school district's assistive technology (AT) assessment procedures.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66" name=""/>
          <p:cNvSpPr/>
          <p:nvPr/>
        </p:nvSpPr>
        <p:spPr>
          <a:xfrm>
            <a:off x="419040" y="26035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nsider different ways to disseminate information on procedures, including web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en doing training, talk about where procedures are located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Meet with ESE teachers each year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en consulting, training, etc. refer teachers to district procedures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Ongoing revisions; including transition plan, ESY procedures, TAPs…….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70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205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rebuchet MS"/>
                <a:ea typeface="Trebuchet MS"/>
              </a:rPr>
              <a:t>Competency 2: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Trebuchet MS"/>
                <a:ea typeface="Trebuchet MS"/>
              </a:rPr>
              <a:t>Understand federal and state regulations and policies related to the consideration and implementation of assistive technology in Florida schools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73" name=""/>
          <p:cNvSpPr/>
          <p:nvPr/>
        </p:nvSpPr>
        <p:spPr>
          <a:xfrm>
            <a:off x="520560" y="3162240"/>
            <a:ext cx="754380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Sign up for paperless from DOE to get TAPS directly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ASHA is excellent source for information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RTS distribute to local teams and to staffing specialists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Trainings are open to Gen Ed Teachers. TAPs disseminated when appropriate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77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232920"/>
            <a:ext cx="869940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4617b"/>
                </a:solidFill>
                <a:latin typeface="Trebuchet MS"/>
                <a:ea typeface="Trebuchet MS"/>
              </a:rPr>
              <a:t>Competency 7:</a:t>
            </a:r>
            <a:br>
              <a:rPr sz="2700"/>
            </a:br>
            <a:r>
              <a:rPr b="0" lang="en-US" sz="2700" spc="-1" strike="noStrike">
                <a:solidFill>
                  <a:srgbClr val="04617b"/>
                </a:solidFill>
                <a:latin typeface="Trebuchet MS"/>
                <a:ea typeface="Trebuchet MS"/>
              </a:rPr>
              <a:t>Interpret and present the results of AT assessments to the IEP teams in a way that supports effective decision</a:t>
            </a:r>
            <a:r>
              <a:rPr b="0" lang="en-US" sz="2500" spc="-1" strike="noStrike">
                <a:solidFill>
                  <a:srgbClr val="04617b"/>
                </a:solidFill>
                <a:latin typeface="Trebuchet MS"/>
                <a:ea typeface="Trebuchet MS"/>
              </a:rPr>
              <a:t>-making based on the student, the educational program, and data gathered during the assessment process.</a:t>
            </a: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2743200"/>
            <a:ext cx="8686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pport via Assessment Tool Kits, LOTTIE kits or commercial kits – train school staff on use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chool based teams are being used extensively, but good training is essential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atellite Labs – make &amp; take, technical assistance, AT tool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Many Tech’s attend IEP meetings when more severe needs are present.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Local teams invite LATS and RLATS to attend/participate when indicated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84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68280" y="-31680"/>
            <a:ext cx="8407440" cy="29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rebuchet MS"/>
                <a:ea typeface="Trebuchet MS"/>
              </a:rPr>
              <a:t>Competency 9: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Trebuchet MS"/>
                <a:ea typeface="Trebuchet MS"/>
              </a:rPr>
              <a:t>Collaborate with those in charge of implementing the IEP to formulate and initiate a plan using AT to support the educational achievement of the students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2743200"/>
            <a:ext cx="8686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mplementation part has to be done by school based team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FDLRS may support by demonstrating model teaching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KYPE-video conferencing with teacher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Model lessons; asks for data when possible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Follow up modeling with written plan, model again and again, and again and practice, practice, practice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30% assessment, 70% implementation-how we determine if what they are using is effective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Demonstration cla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91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Review the Trends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2413080"/>
            <a:ext cx="8686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District plans including transition, with a move to web bas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ign up for paperless communication through DO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dobe Connect, Elluminate used for virtual meetings/SKYP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FLDRS Associate Techs, LATS and RLATS providing Model lessons and Model Classro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District Teams are successful and driving the ac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mplementation is the key: Recommend 30% assessment, 70% implementation-how we determine if what they are using is effective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6DEB4-C989-4612-B330-0356F17C33D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98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458200" cy="29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Let’s do your Action Plans. 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BE1F0-E69A-4D7A-A9A3-A0BCD2FB166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204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3059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rebuchet MS"/>
                <a:ea typeface="Trebuchet MS"/>
              </a:rPr>
              <a:t>Florida/NIMAS</a:t>
            </a:r>
            <a:endParaRPr b="0" lang="en-US" sz="44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07" name=""/>
          <p:cNvSpPr/>
          <p:nvPr/>
        </p:nvSpPr>
        <p:spPr>
          <a:xfrm>
            <a:off x="1639800" y="2502000"/>
            <a:ext cx="5931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211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3059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rebuchet MS"/>
                <a:ea typeface="Trebuchet MS"/>
              </a:rPr>
              <a:t>Beginner LATS</a:t>
            </a:r>
            <a:endParaRPr b="0" lang="en-US" sz="4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2133720"/>
            <a:ext cx="685800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218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3440"/>
            <a:ext cx="83059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Trebuchet MS"/>
                <a:ea typeface="Trebuchet MS"/>
              </a:rPr>
              <a:t>THANK YOU!!!!!!</a:t>
            </a:r>
            <a:endParaRPr b="0" lang="en-US" sz="4500" spc="-1" strike="noStrike">
              <a:solidFill>
                <a:srgbClr val="04617b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39680" y="673200"/>
            <a:ext cx="8864640" cy="590868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86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89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50896-1DDA-47CF-BC1E-C8BEBCC1013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600" y="584280"/>
            <a:ext cx="8915400" cy="594360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92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95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301E8-40D5-4056-BE43-398DE496261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50760" y="655560"/>
            <a:ext cx="9004320" cy="600228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98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01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4C9E1-A55E-4050-8A93-CB4E9BAAF86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-488880" y="419040"/>
            <a:ext cx="9435960" cy="628956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104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07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E399F-78F7-41C3-B242-C861D72DF2E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12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rebuchet MS"/>
                <a:ea typeface="Trebuchet MS"/>
              </a:rPr>
              <a:t>Regional Technology Services Specialists (RTS)</a:t>
            </a:r>
            <a:endParaRPr b="0" lang="en-US" sz="4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717640"/>
            <a:ext cx="72388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buClr>
                <a:srgbClr val="04617b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Our network’s goal is. . . 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to use the  Florida Assistive Technology  Assessment Competencies to provides a framework for the way we do business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19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429000" y="1676520"/>
            <a:ext cx="2286000" cy="1676160"/>
          </a:xfrm>
          <a:prstGeom prst="rect">
            <a:avLst/>
          </a:prstGeom>
          <a:solidFill>
            <a:srgbClr val="ffddb0"/>
          </a:solidFill>
          <a:ln w="57240">
            <a:solidFill>
              <a:srgbClr val="00009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UD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I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570560" y="3352680"/>
            <a:ext cx="1440" cy="60984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066680" y="3963960"/>
            <a:ext cx="6934320" cy="144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4648320"/>
            <a:ext cx="1981440" cy="1676160"/>
          </a:xfrm>
          <a:prstGeom prst="rect">
            <a:avLst/>
          </a:prstGeom>
          <a:solidFill>
            <a:srgbClr val="ffddb0"/>
          </a:solidFill>
          <a:ln w="57240">
            <a:solidFill>
              <a:srgbClr val="00009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T and UD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4648320"/>
            <a:ext cx="2209680" cy="1676160"/>
          </a:xfrm>
          <a:prstGeom prst="rect">
            <a:avLst/>
          </a:prstGeom>
          <a:solidFill>
            <a:srgbClr val="ffddb0"/>
          </a:solidFill>
          <a:ln w="57240">
            <a:solidFill>
              <a:srgbClr val="00009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UDL Solutions for IEP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Accommoda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648320"/>
            <a:ext cx="1981080" cy="1676160"/>
          </a:xfrm>
          <a:prstGeom prst="rect">
            <a:avLst/>
          </a:prstGeom>
          <a:solidFill>
            <a:srgbClr val="ffddb0"/>
          </a:solidFill>
          <a:ln w="57240">
            <a:solidFill>
              <a:srgbClr val="00009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EP Goals and Tech Strate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"/>
          <p:cNvSpPr/>
          <p:nvPr/>
        </p:nvSpPr>
        <p:spPr>
          <a:xfrm>
            <a:off x="7007400" y="4648320"/>
            <a:ext cx="1981080" cy="1676160"/>
          </a:xfrm>
          <a:prstGeom prst="rect">
            <a:avLst/>
          </a:prstGeom>
          <a:solidFill>
            <a:srgbClr val="ffddb0"/>
          </a:solidFill>
          <a:ln w="57240">
            <a:solidFill>
              <a:srgbClr val="00009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, AT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I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065240" y="3963960"/>
            <a:ext cx="1440" cy="68436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198960" y="3965400"/>
            <a:ext cx="1440" cy="68292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560560" y="3963960"/>
            <a:ext cx="1800" cy="68436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999560" y="3963960"/>
            <a:ext cx="1440" cy="68436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304920"/>
            <a:ext cx="8305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Roadmap for supporting students with disabilities (SWD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36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rebuchet MS"/>
                <a:ea typeface="Trebuchet MS"/>
              </a:rPr>
              <a:t>Action Plan</a:t>
            </a:r>
            <a:endParaRPr b="0" lang="en-US" sz="44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981080"/>
            <a:ext cx="8305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62120" y="2727360"/>
            <a:ext cx="7696080" cy="117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44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rebuchet MS"/>
                <a:ea typeface="Trebuchet MS"/>
              </a:rPr>
              <a:t>December 3rd Action Plan</a:t>
            </a:r>
            <a:endParaRPr b="0" lang="en-US" sz="44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981080"/>
            <a:ext cx="8305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4267080"/>
            <a:ext cx="739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4191120"/>
            <a:ext cx="7086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ヒラギノ角ゴ ProN W3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600200" y="1325520"/>
          <a:ext cx="7165800" cy="5072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325520"/>
                    <a:ext cx="716580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eth Saunders</dc:creator>
  <dc:description/>
  <cp:keywords/>
  <dc:language>en-US</dc:language>
  <cp:lastModifiedBy>lcsb</cp:lastModifiedBy>
  <dcterms:modified xsi:type="dcterms:W3CDTF">2008-12-03T13:19:05Z</dcterms:modified>
  <cp:revision>5</cp:revision>
  <dc:subject/>
  <dc:title>Assistive Technology Assessment Competencies</dc:title>
</cp:coreProperties>
</file>