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2861-1703-4047-AF7B-F88A53013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E668-D00F-496C-810D-2BCAA8901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1B19-CEE5-40C2-ABC3-EA7E2808C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01B1-2191-40D2-8DA5-9FF71BCA3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01E8C-59DE-4965-B452-4CFB2DECB4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C1D64-B26B-4874-A1C6-18FBFE247C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5809F-0C74-4B4F-AC0B-658094D74D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82975-51CF-4886-91ED-ABEBB260F1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15FBB-4ADA-4B52-97A1-0FE0810129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70308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4FE37-50CD-4A23-84DD-59D6E7F995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AB8B8-A2BC-4108-9E3E-D961751D84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378BF-FE68-4955-9B8B-B50DBACCB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9EA91-1E28-4ABE-A6F7-241EA2377B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59EA7-70FF-4333-BFF2-1E40AC9829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9054A-CA70-486E-AD13-7AA7F6EA66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63766-E039-4DC4-9A35-A20C14AD5C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B38AD-3C69-48D3-AB76-90FAB73FCA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41E4-CF3D-4338-99AC-9912C08C8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3D85-5A61-4399-BA36-33199252B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893E-2F97-43E0-B3D8-F5A83ED48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70308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ECABB-4AC6-4E87-AB48-E635D8E9A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B878-9E2C-493B-B33F-147E60917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68C0-5A84-4034-B65D-7604DDFAA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DA019-2B4D-4C62-9C77-1DEE429FE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50B0-AEAB-47FA-8E88-01109B01C96B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3972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14400" indent="-247680">
              <a:spcBef>
                <a:spcPts val="499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461960" indent="-209520">
              <a:spcBef>
                <a:spcPts val="499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D008-2E20-4064-975C-2ECDF62347E0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3972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14400" indent="-247680">
              <a:spcBef>
                <a:spcPts val="499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461960" indent="-209520">
              <a:spcBef>
                <a:spcPts val="499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8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66760" y="1790640"/>
            <a:ext cx="8610480" cy="1117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11360" y="323856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Trebuchet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gional Technology Servic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55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rebuchet MS"/>
                <a:ea typeface="Trebuchet MS"/>
              </a:rPr>
              <a:t>Assistive Technology Assessment</a:t>
            </a:r>
            <a:br>
              <a:rPr sz="3600"/>
            </a:br>
            <a:r>
              <a:rPr b="1" lang="en-US" sz="36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ies</a:t>
            </a:r>
            <a:endParaRPr b="0" lang="en-US" sz="36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182880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etencies 1, 2, 7, 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2819520"/>
            <a:ext cx="807732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1 - Knowledge of school district’s AT assessment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2 - Understanding of State and Federal regulations and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polici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7 - Ability to interpret and present results of AT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ssessment to IEP team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9 - Collaborate with those in charge of implementing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IEP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63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Lucida Grande"/>
              </a:rPr>
              <a:t>Competency 1: 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Trebuchet MS"/>
                <a:ea typeface="Trebuchet MS"/>
              </a:rPr>
              <a:t>Be knowledgeable about and implement the school district's assistive technology (AT) assessment procedures.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66" name=""/>
          <p:cNvSpPr/>
          <p:nvPr/>
        </p:nvSpPr>
        <p:spPr>
          <a:xfrm>
            <a:off x="419040" y="26035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nsider different ways to disseminate information on procedures, including web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en doing training, talk about where procedures are locate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Meet with ESE teachers each year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en consulting, training, etc. refer teachers to district procedures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Ongoing revisions; including transition plan, ESY procedures, TAPs…….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70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205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y 2: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Understand federal and state regulations and policies related to the consideration and implementation of assistive technology in Florida schools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73" name=""/>
          <p:cNvSpPr/>
          <p:nvPr/>
        </p:nvSpPr>
        <p:spPr>
          <a:xfrm>
            <a:off x="520560" y="3162240"/>
            <a:ext cx="754380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Sign up for paperless from DOE to get TAPS directly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ASHA is excellent source for information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RTS distribute to local teams and to staffing specialist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rainings are open to Gen Ed Teachers. TAPs disseminated when appropriate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77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232920"/>
            <a:ext cx="86994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y 7:</a:t>
            </a:r>
            <a:br>
              <a:rPr sz="2700"/>
            </a:br>
            <a:r>
              <a:rPr b="0" lang="en-US" sz="2700" spc="-1" strike="noStrike">
                <a:solidFill>
                  <a:srgbClr val="04617b"/>
                </a:solidFill>
                <a:latin typeface="Trebuchet MS"/>
                <a:ea typeface="Trebuchet MS"/>
              </a:rPr>
              <a:t>Interpret and present the results of AT assessments to the IEP teams in a way that supports effective decision</a:t>
            </a:r>
            <a:r>
              <a:rPr b="0" lang="en-US" sz="2500" spc="-1" strike="noStrike">
                <a:solidFill>
                  <a:srgbClr val="04617b"/>
                </a:solidFill>
                <a:latin typeface="Trebuchet MS"/>
                <a:ea typeface="Trebuchet MS"/>
              </a:rPr>
              <a:t>-making based on the student, the educational program, and data gathered during the assessment process.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2743200"/>
            <a:ext cx="868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pport via Assessment Tool Kits, LOTTIE kits or commercial kits – train school staff on us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chool based teams are being used extensively, but good training is essential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atellite Labs – make &amp; take, technical assistance, AT tool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Many Tech’s attend IEP meetings when more severe needs are present.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Local teams invite LATS and RLATS to attend/participate when indicated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84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68280" y="-31680"/>
            <a:ext cx="8407440" cy="29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y 9: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llaborate with those in charge of implementing the IEP to formulate and initiate a plan using AT to support the educational achievement of the students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2743200"/>
            <a:ext cx="8686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mplementation part has to be done by school based team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DLRS may support by demonstrating model teaching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KYPE-video conferencing with teacher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Model lessons; asks for data when possibl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ollow up modeling with written plan, model again and again, and again and practice, practice, practice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30% assessment, 70% implementation-how we determine if what they are using is effective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emonstration cla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9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Review the Trends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41308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istrict plans including transition, with a move to web bas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ign up for paperless communication through DO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dobe Connect, Elluminate used for virtual meetings/SKYP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LDRS Associate Techs, LATS and RLATS providing Model lessons and Model Classro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istrict Teams are successful and driving the ac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mplementation is the key: Recommend 30% assessment, 70% implementation-how we determine if what they are using is effective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1D5D-7AD9-4627-87CB-E47AEB1BB29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98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45820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Let’s do your Action Plans. 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93C08-E506-4B08-81DC-60BBA3DEF6A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204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3059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rebuchet MS"/>
                <a:ea typeface="Trebuchet MS"/>
              </a:rPr>
              <a:t>Florida/NIMAS</a:t>
            </a:r>
            <a:endParaRPr b="0" lang="en-US" sz="44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07" name=""/>
          <p:cNvSpPr/>
          <p:nvPr/>
        </p:nvSpPr>
        <p:spPr>
          <a:xfrm>
            <a:off x="1639800" y="2502000"/>
            <a:ext cx="593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21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3059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rebuchet MS"/>
                <a:ea typeface="Trebuchet MS"/>
              </a:rPr>
              <a:t>Beginner LATS</a:t>
            </a:r>
            <a:endParaRPr b="0" lang="en-US" sz="4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2133720"/>
            <a:ext cx="685800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218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3440"/>
            <a:ext cx="83059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Trebuchet MS"/>
                <a:ea typeface="Trebuchet MS"/>
              </a:rPr>
              <a:t>THANK YOU!!!!!!</a:t>
            </a:r>
            <a:endParaRPr b="0" lang="en-US" sz="4500" spc="-1" strike="noStrike">
              <a:solidFill>
                <a:srgbClr val="04617b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39680" y="673200"/>
            <a:ext cx="8864640" cy="59086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86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89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8E62-E8CA-4B30-AFB4-A4FCD71196C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600" y="584280"/>
            <a:ext cx="8915400" cy="594360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92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95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24462-D851-4632-981D-197676BA527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50760" y="655560"/>
            <a:ext cx="9004320" cy="60022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9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0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3912-9531-4D8C-A92E-2FB332EC04F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-488880" y="419040"/>
            <a:ext cx="9435960" cy="628956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104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07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4195-35FB-45AE-873F-0A88A443FC0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12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rebuchet MS"/>
                <a:ea typeface="Trebuchet MS"/>
              </a:rPr>
              <a:t>Regional Technology Services Specialists (RTS)</a:t>
            </a:r>
            <a:endParaRPr b="0" lang="en-US" sz="4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717640"/>
            <a:ext cx="72388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buClr>
                <a:srgbClr val="04617b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Our network’s goal is. . . 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to use the  Florida Assistive Technology  Assessment Competencies to provides a framework for the way we do business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19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429000" y="1676520"/>
            <a:ext cx="228600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UD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I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70560" y="3352680"/>
            <a:ext cx="1440" cy="60984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066680" y="3963960"/>
            <a:ext cx="6934320" cy="144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4648320"/>
            <a:ext cx="198144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T and UD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4648320"/>
            <a:ext cx="220968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UDL Solutions for IE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Accommoda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648320"/>
            <a:ext cx="198108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EP Goals and Tech Strate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"/>
          <p:cNvSpPr/>
          <p:nvPr/>
        </p:nvSpPr>
        <p:spPr>
          <a:xfrm>
            <a:off x="7007400" y="4648320"/>
            <a:ext cx="198108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, AT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I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065240" y="3963960"/>
            <a:ext cx="1440" cy="684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198960" y="3965400"/>
            <a:ext cx="1440" cy="68292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60560" y="3963960"/>
            <a:ext cx="1800" cy="684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999560" y="3963960"/>
            <a:ext cx="1440" cy="684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30492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oadmap for supporting students with disabilities (SWD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36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rebuchet MS"/>
                <a:ea typeface="Trebuchet MS"/>
              </a:rPr>
              <a:t>Action Plan</a:t>
            </a:r>
            <a:endParaRPr b="0" lang="en-US" sz="44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981080"/>
            <a:ext cx="8305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62120" y="2727360"/>
            <a:ext cx="7696080" cy="11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44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rebuchet MS"/>
                <a:ea typeface="Trebuchet MS"/>
              </a:rPr>
              <a:t>December 3rd Action Plan</a:t>
            </a:r>
            <a:endParaRPr b="0" lang="en-US" sz="44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981080"/>
            <a:ext cx="8305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4267080"/>
            <a:ext cx="739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4191120"/>
            <a:ext cx="7086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ヒラギノ角ゴ ProN W3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600200" y="1325520"/>
          <a:ext cx="7165800" cy="5072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325520"/>
                    <a:ext cx="716580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th Saunders</dc:creator>
  <dc:description/>
  <cp:keywords/>
  <dc:language>en-US</dc:language>
  <cp:lastModifiedBy>lcsb</cp:lastModifiedBy>
  <dcterms:modified xsi:type="dcterms:W3CDTF">2008-12-03T13:19:05Z</dcterms:modified>
  <cp:revision>5</cp:revision>
  <dc:subject/>
  <dc:title>Assistive Technology Assessment Competencies</dc:title>
</cp:coreProperties>
</file>