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466C-E8AA-4E14-9186-034D3CE64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AD25-ED39-412A-BE6A-D94E32C65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8B34-CB85-4825-B0C1-2E1FE42E7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BC44-FB1A-4F91-B421-AA4099CDC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EEC3-A583-4727-AFE8-EE9C3E8BA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B31F-F6E4-4C1D-B660-A4C2C0C217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59EF-D080-4E85-B373-E34B76FCA3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209D-5A64-4EB7-937F-5629313B4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F444-63A3-4370-A21C-7DD08C9DE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260F-0808-47F5-AA72-F510DAA164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493C-9E96-4FEE-8576-1B0598EE0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A0C3-9002-475A-B38D-F899DCD5F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58F5-09BC-4548-B69F-E5CB92958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B47E-BE7D-4819-B335-9FF8609E9B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0858-161C-4C43-AF16-977B193020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B310-962A-4C70-857C-ED16A68910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32AA-5B4F-4130-83AE-1DB6D1552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3ED4-152C-458B-9C82-D728C8C67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E342-CE51-4813-A9BB-24233BA81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F2B3-C163-4F1D-9035-412E73598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40FF-2215-40A4-A8F3-D94288EC1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0050-02CB-489D-8A41-1B9D52D65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9B7E-DA31-494D-AE64-56CFA17EB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9577-F4F8-4A80-B317-E8725BDDB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8DA-9DFF-4E1A-AA96-C71E1E35C890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F6FF-ABCF-4C96-B449-79A111834912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760" y="1790640"/>
            <a:ext cx="861048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1360" y="323856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onal Technology Servi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Assistive Technology Assessment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ies</a:t>
            </a:r>
            <a:endParaRPr b="0" lang="en-US" sz="36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etencies 1, 2, 7,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819520"/>
            <a:ext cx="8077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1 - Knowledge of school district’s AT assess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2 - Understanding of State and Federal regulations an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i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7 - Ability to interpret and present results of A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sessment to IEP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9 - Collaborate with those in charge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IE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3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Lucida Grande"/>
              </a:rPr>
              <a:t>Competency 1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 knowledgeable about and implement the school district's assistive technology (AT) assessment procedures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19040" y="26035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sider different ways to disseminate information on procedures, including web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doing training, talk about where procedures are loc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Meet with ESE teachers each yea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consulting, training, etc. refer teachers to district procedur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going revisions; including transition plan, ESY procedures, TAPs……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0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20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2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Understand federal and state regulations and policies related to the consideration and implementation of assistive technology in Florida school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16224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from DOE to get TAPS directly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HA is excellent source for informa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RTS distribute to local teams and to staffing specialist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inings are open to Gen Ed Teachers. TAPs disseminated when appropri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6994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7:</a:t>
            </a:r>
            <a:br>
              <a:rPr sz="2700"/>
            </a:b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Interpret and present the results of AT assessments to the IEP teams in a way that supports effective decision</a:t>
            </a:r>
            <a:r>
              <a:rPr b="0" lang="en-US" sz="2500" spc="-1" strike="noStrike">
                <a:solidFill>
                  <a:srgbClr val="04617b"/>
                </a:solidFill>
                <a:latin typeface="Trebuchet MS"/>
                <a:ea typeface="Trebuchet MS"/>
              </a:rPr>
              <a:t>-making based on the student, the educational program, and data gathered during the assessment process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pport via Assessment Tool Kits, LOTTIE kits or commercial kits – train school staff on 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chool based teams are being used extensively, but good training is essent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tellite Labs – make &amp; take, technical assistance, AT tool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ny Tech’s attend IEP meetings when more severe needs are present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teams invite LATS and RLATS to attend/participate when indicat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8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8280" y="-31680"/>
            <a:ext cx="84074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9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llaborate with those in charge of implementing the IEP to formulate and initiate a plan using AT to support the educational achievement of the student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part has to be done by school based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DLRS may support by demonstrating model teach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KYPE-video conferencing with teach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odel lessons; asks for data when possibl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up modeling with written plan, model again and again, and again and practice, practice, practic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monstration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Review the Trend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1308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plans including transition, with a move to web b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communication through DO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dobe Connect, Elluminate used for virtual meetings/SK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LDRS Associate Techs, LATS and RLATS providing Model lessons and Model Classro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Teams are successful and driving the 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is the key: Recommend 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3B3E-98F9-481E-82FB-84D075DD00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do your Action Plans.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1686-AD19-4475-8C3D-54E7E34691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0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Florida/NIMAS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2502000"/>
            <a:ext cx="59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ginner LATS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133720"/>
            <a:ext cx="6858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305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rebuchet MS"/>
                <a:ea typeface="Trebuchet MS"/>
              </a:rPr>
              <a:t>THANK YOU!!!!!!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9680" y="673200"/>
            <a:ext cx="8864640" cy="5908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AFD8-0F81-4737-AF0C-A6580B65D9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8915400" cy="594360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3D4D-9304-4D65-BA8E-32270A2126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0760" y="655560"/>
            <a:ext cx="9004320" cy="60022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8E4E-1020-479B-A473-22A6F3041E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488880" y="419040"/>
            <a:ext cx="9435960" cy="62895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1FF4-E60F-4B5F-B002-D2CF94CDF1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2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Regional Technology Services Specialists (RTS)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717640"/>
            <a:ext cx="7238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ur network’s goal is. . .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o use the  Florida Assistive Technology  Assessment Competencies to provides a framework for the way we do business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29000" y="1676520"/>
            <a:ext cx="228600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352680"/>
            <a:ext cx="1440" cy="6098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66680" y="3963960"/>
            <a:ext cx="6934320" cy="1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48320"/>
            <a:ext cx="198144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 and 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648320"/>
            <a:ext cx="22096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 Solutions for IE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commod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EP Goals and Tech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70074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, A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6524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98960" y="3965400"/>
            <a:ext cx="1440" cy="6829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0560" y="3963960"/>
            <a:ext cx="180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9956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049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oadmap for supporting students with disabilities (SW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2727360"/>
            <a:ext cx="7696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December 3rd 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2670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191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1325520"/>
          <a:ext cx="7165800" cy="50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25520"/>
                    <a:ext cx="716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Saunders</dc:creator>
  <dc:description/>
  <cp:keywords/>
  <dc:language>en-US</dc:language>
  <cp:lastModifiedBy>lcsb</cp:lastModifiedBy>
  <dcterms:modified xsi:type="dcterms:W3CDTF">2008-12-03T13:19:05Z</dcterms:modified>
  <cp:revision>5</cp:revision>
  <dc:subject/>
  <dc:title>Assistive Technology Assessment Competencies</dc:title>
</cp:coreProperties>
</file>