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4018-ABAF-45FE-8692-874C1F683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9255-4183-4C76-A258-A5F731D4F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E4C2-C9D3-40AC-A1CE-CE0020178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2694-7BE9-4FA0-AE88-4B5205FCE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5F58-6111-4163-AF56-0E493528E7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2E2F-2DAB-4AB5-9354-464537CEF3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6625-88B1-4A8B-8804-1020834168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DE25-BDF7-41A5-9350-C9CAF50566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C61F-4F6C-4C90-AC2F-423EF4A10F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E8BC-37A4-4B42-B4DC-99CDFEC40E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047A-D57F-4CC9-83A2-BE081A281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4315-1EBA-4383-B448-6F56CCF7F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6AB9-DC2E-43B1-A9A1-974A5E81D6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BB05-BD0B-482E-90C3-21437CD770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1E20-B391-4F09-810C-B367D5407C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DD7D-7FA1-4114-A1DF-0A02C25799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47EF-030A-4FA7-8C03-21B94B6376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B98E-8EF2-416C-885B-E74F1DA57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3DE0-7E4D-47E1-8D20-D0281633B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971E-7A0F-45D8-B938-95C41F467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C3E7-5648-45FB-94E0-BD81DFE65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3FC1-BC2F-4C99-84A0-121F6501D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0761-41B6-4244-9C28-2E6DF9732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73A4-6CFE-4F49-807F-E9ED3A87D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4C15-B0BC-4626-9FAB-4AAC20C7D3AA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5C98-9F40-4CF8-BB1B-6862D2A317F5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760" y="1790640"/>
            <a:ext cx="8610480" cy="111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11360" y="323856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onal Technology Servic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55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Trebuchet MS"/>
                <a:ea typeface="Trebuchet MS"/>
              </a:rPr>
              <a:t>Assistive Technology Assessment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ies</a:t>
            </a:r>
            <a:endParaRPr b="0" lang="en-US" sz="36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8288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etencies 1, 2, 7, 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819520"/>
            <a:ext cx="8077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1 - Knowledge of school district’s AT assessmen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2 - Understanding of State and Federal regulations and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polici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7 - Ability to interpret and present results of A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ssessment to IEP team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#9 - Collaborate with those in charge of implementing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IEP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63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Lucida Grande"/>
              </a:rPr>
              <a:t>Competency 1: 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Trebuchet MS"/>
                <a:ea typeface="Trebuchet MS"/>
              </a:rPr>
              <a:t>Be knowledgeable about and implement the school district's assistive technology (AT) assessment procedures.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66" name=""/>
          <p:cNvSpPr/>
          <p:nvPr/>
        </p:nvSpPr>
        <p:spPr>
          <a:xfrm>
            <a:off x="419040" y="26035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nsider different ways to disseminate information on procedures, including web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doing training, talk about where procedures are locate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Meet with ESE teachers each year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When consulting, training, etc. refer teachers to district procedures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Ongoing revisions; including transition plan, ESY procedures, TAPs……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70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20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2: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Understand federal and state regulations and policies related to the consideration and implementation of assistive technology in Florida schools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3" name=""/>
          <p:cNvSpPr/>
          <p:nvPr/>
        </p:nvSpPr>
        <p:spPr>
          <a:xfrm>
            <a:off x="520560" y="3162240"/>
            <a:ext cx="754380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Sign up for paperless from DOE to get TAPS directly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ASHA is excellent source for informatio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RTS distribute to local teams and to staffing specialist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rainings are open to Gen Ed Teachers. TAPs disseminated when appropriate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77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232920"/>
            <a:ext cx="869940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7:</a:t>
            </a:r>
            <a:br>
              <a:rPr sz="2700"/>
            </a:br>
            <a:r>
              <a:rPr b="0" lang="en-US" sz="2700" spc="-1" strike="noStrike">
                <a:solidFill>
                  <a:srgbClr val="04617b"/>
                </a:solidFill>
                <a:latin typeface="Trebuchet MS"/>
                <a:ea typeface="Trebuchet MS"/>
              </a:rPr>
              <a:t>Interpret and present the results of AT assessments to the IEP teams in a way that supports effective decision</a:t>
            </a:r>
            <a:r>
              <a:rPr b="0" lang="en-US" sz="2500" spc="-1" strike="noStrike">
                <a:solidFill>
                  <a:srgbClr val="04617b"/>
                </a:solidFill>
                <a:latin typeface="Trebuchet MS"/>
                <a:ea typeface="Trebuchet MS"/>
              </a:rPr>
              <a:t>-making based on the student, the educational program, and data gathered during the assessment process.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74320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pport via Assessment Tool Kits, LOTTIE kits or commercial kits – train school staff on us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chool based teams are being used extensively, but good training is essential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atellite Labs – make &amp; take, technical assistance, AT tool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any Tech’s attend IEP meetings when more severe needs are present. 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teams invite LATS and RLATS to attend/participate when indicated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8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8280" y="-31680"/>
            <a:ext cx="8407440" cy="29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mpetency 9: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Trebuchet MS"/>
                <a:ea typeface="Trebuchet MS"/>
              </a:rPr>
              <a:t>Collaborate with those in charge of implementing the IEP to formulate and initiate a plan using AT to support the educational achievement of the students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274320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lementation part has to be done by school based team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DLRS may support by demonstrating model teachin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KYPE-video conferencing with teacher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Model lessons; asks for data when possibl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llow up modeling with written plan, model again and again, and again and practice, practice, practic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30% assessment, 70% implementation-how we determine if what they are using is effectiv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emonstration cla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9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Review the Trends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41308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ct plans including transition, with a move to web ba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Sign up for paperless communication through DO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dobe Connect, Elluminate used for virtual meetings/SKYP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FLDRS Associate Techs, LATS and RLATS providing Model lessons and Model Classro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District Teams are successful and driving the ac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mplementation is the key: Recommend 30% assessment, 70% implementation-how we determine if what they are using is effectiv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0A5B-1E5D-47B8-B8C8-EC65B716A2E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98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45820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Let’s do your Action Plans. 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D712-7E1A-4BE5-B06B-2421AA75A0C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0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3059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Florida/NIMAS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07" name=""/>
          <p:cNvSpPr/>
          <p:nvPr/>
        </p:nvSpPr>
        <p:spPr>
          <a:xfrm>
            <a:off x="1639800" y="2502000"/>
            <a:ext cx="593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1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3059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  <a:ea typeface="Trebuchet MS"/>
              </a:rPr>
              <a:t>Beginner LATS</a:t>
            </a:r>
            <a:endParaRPr b="0" lang="en-US" sz="4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133720"/>
            <a:ext cx="6858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18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3440"/>
            <a:ext cx="83059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Trebuchet MS"/>
                <a:ea typeface="Trebuchet MS"/>
              </a:rPr>
              <a:t>THANK YOU!!!!!!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9680" y="673200"/>
            <a:ext cx="8864640" cy="59086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86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9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4337-8C2F-4BD2-9941-5A4BC98BB1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600" y="584280"/>
            <a:ext cx="8915400" cy="594360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92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95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2170-2902-431C-BD5E-E981B114C7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50760" y="655560"/>
            <a:ext cx="9004320" cy="600228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98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1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0607-2DC9-4FEF-B092-C54D8653EC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488880" y="419040"/>
            <a:ext cx="9435960" cy="6289560"/>
          </a:xfrm>
          <a:prstGeom prst="rect">
            <a:avLst/>
          </a:prstGeom>
          <a:ln w="0">
            <a:noFill/>
          </a:ln>
          <a:effectLst>
            <a:outerShdw dist="633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104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7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4AAD-2DD1-4D1C-B37D-6AC9B89E77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2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rebuchet MS"/>
                <a:ea typeface="Trebuchet MS"/>
              </a:rPr>
              <a:t>Regional Technology Services Specialists (RTS)</a:t>
            </a:r>
            <a:endParaRPr b="0" lang="en-US" sz="4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717640"/>
            <a:ext cx="72388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Our network’s goal is. . . 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to use the  Florida Assistive Technology  Assessment Competencies to provides a framework for the way we do business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9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429000" y="1676520"/>
            <a:ext cx="228600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UD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70560" y="3352680"/>
            <a:ext cx="1440" cy="6098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066680" y="3963960"/>
            <a:ext cx="6934320" cy="14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648320"/>
            <a:ext cx="198144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T and UD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4648320"/>
            <a:ext cx="22096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UDL Solutions for IE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Accommod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648320"/>
            <a:ext cx="19810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EP Goals and Tech Strate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/>
          <p:cNvSpPr/>
          <p:nvPr/>
        </p:nvSpPr>
        <p:spPr>
          <a:xfrm>
            <a:off x="7007400" y="4648320"/>
            <a:ext cx="1981080" cy="1676160"/>
          </a:xfrm>
          <a:prstGeom prst="rect">
            <a:avLst/>
          </a:prstGeom>
          <a:solidFill>
            <a:srgbClr val="ffddb0"/>
          </a:solidFill>
          <a:ln w="57240">
            <a:solidFill>
              <a:srgbClr val="00009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, AT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AI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65240" y="3963960"/>
            <a:ext cx="144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198960" y="3965400"/>
            <a:ext cx="1440" cy="6829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60560" y="3963960"/>
            <a:ext cx="180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999560" y="3963960"/>
            <a:ext cx="1440" cy="684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3049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oadmap for supporting students with disabilities (SW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36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Action Plan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981080"/>
            <a:ext cx="830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2727360"/>
            <a:ext cx="7696080" cy="11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9360" y="-6480"/>
            <a:ext cx="9162720" cy="1040040"/>
          </a:xfrm>
          <a:prstGeom prst="pie">
            <a:avLst/>
          </a:pr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4381560" y="-6480"/>
            <a:ext cx="4762440" cy="604800"/>
          </a:xfrm>
          <a:prstGeom prst="pie">
            <a:avLst/>
          </a:pr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44" name=""/>
            <p:cNvSpPr/>
            <p:nvPr/>
          </p:nvSpPr>
          <p:spPr>
            <a:xfrm rot="21420000">
              <a:off x="-28080" y="-15840"/>
              <a:ext cx="9178200" cy="1098000"/>
            </a:xfrm>
            <a:prstGeom prst="pie">
              <a:avLst/>
            </a:prstGeom>
            <a:noFill/>
            <a:ln w="10800">
              <a:solidFill>
                <a:srgbClr val="04a0be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1420000">
              <a:off x="-22680" y="115920"/>
              <a:ext cx="9190800" cy="892800"/>
            </a:xfrm>
            <a:prstGeom prst="pie">
              <a:avLst/>
            </a:prstGeom>
            <a:noFill/>
            <a:ln w="9360">
              <a:solidFill>
                <a:srgbClr val="08b6ba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rebuchet MS"/>
                <a:ea typeface="Trebuchet MS"/>
              </a:rPr>
              <a:t>December 3rd Action Plan</a:t>
            </a:r>
            <a:endParaRPr b="0" lang="en-US" sz="44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81080"/>
            <a:ext cx="8305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426708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419112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ヒラギノ角ゴ ProN W3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00200" y="1325520"/>
          <a:ext cx="7165800" cy="507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325520"/>
                    <a:ext cx="71658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th Saunders</dc:creator>
  <dc:description/>
  <cp:keywords/>
  <dc:language>en-US</dc:language>
  <cp:lastModifiedBy>lcsb</cp:lastModifiedBy>
  <dcterms:modified xsi:type="dcterms:W3CDTF">2008-12-03T13:19:05Z</dcterms:modified>
  <cp:revision>5</cp:revision>
  <dc:subject/>
  <dc:title>Assistive Technology Assessment Competencies</dc:title>
</cp:coreProperties>
</file>